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8018-F946-4620-8FCF-8B79B69F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9DE-D33C-4132-B7D8-E97E07E0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库仑的介绍参阅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ep.com.cn/200406/ca435124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-2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库仑定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285920" y="142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库仑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C.A.Coulomb  1736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806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42960" y="857160"/>
            <a:ext cx="8001000" cy="10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国物理学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8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通过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扭秤实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创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库仑定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电磁学的研究从定性进入定量阶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荷的单位库仑以他的姓氏命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4" descr="coulomb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071720" y="2571840"/>
            <a:ext cx="23144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8" descr="扭秤-2 拷贝"/>
          <p:cNvPicPr/>
          <p:nvPr/>
        </p:nvPicPr>
        <p:blipFill>
          <a:blip r:embed="rId2"/>
          <a:stretch/>
        </p:blipFill>
        <p:spPr>
          <a:xfrm>
            <a:off x="4643280" y="2643120"/>
            <a:ext cx="192888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642960" y="2214720"/>
                <a:ext cx="374472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500120" y="4230720"/>
                <a:ext cx="25718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Rectangle 4"/>
          <p:cNvSpPr/>
          <p:nvPr/>
        </p:nvSpPr>
        <p:spPr>
          <a:xfrm>
            <a:off x="604800" y="43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小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6720" y="551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向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1523880" y="5518080"/>
            <a:ext cx="5410080" cy="734040"/>
            <a:chOff x="1523880" y="5518080"/>
            <a:chExt cx="5410080" cy="734040"/>
          </a:xfrm>
        </p:grpSpPr>
        <mc:AlternateContent>
          <mc:Choice xmlns:a14="http://schemas.microsoft.com/office/drawing/2010/main" Requires="a14">
            <p:sp>
              <p:nvSpPr>
                <p:cNvPr id="58" name="Object 6"/>
                <p:cNvSpPr txBox="1"/>
                <p:nvPr/>
              </p:nvSpPr>
              <p:spPr>
                <a:xfrm>
                  <a:off x="1523880" y="5518080"/>
                  <a:ext cx="53856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Object 8"/>
                <p:cNvSpPr txBox="1"/>
                <p:nvPr/>
              </p:nvSpPr>
              <p:spPr>
                <a:xfrm>
                  <a:off x="2408760" y="5518080"/>
                  <a:ext cx="62640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Text Box 9"/>
            <p:cNvSpPr/>
            <p:nvPr/>
          </p:nvSpPr>
          <p:spPr>
            <a:xfrm>
              <a:off x="1921320" y="5670720"/>
              <a:ext cx="501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     同号相斥，异号相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" name="Text Box 25"/>
          <p:cNvSpPr/>
          <p:nvPr/>
        </p:nvSpPr>
        <p:spPr>
          <a:xfrm>
            <a:off x="539640" y="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库仑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Group 37"/>
          <p:cNvGrpSpPr/>
          <p:nvPr/>
        </p:nvGrpSpPr>
        <p:grpSpPr>
          <a:xfrm>
            <a:off x="5429160" y="928800"/>
            <a:ext cx="3311640" cy="3313080"/>
            <a:chOff x="5429160" y="928800"/>
            <a:chExt cx="3311640" cy="3313080"/>
          </a:xfrm>
        </p:grpSpPr>
        <p:sp>
          <p:nvSpPr>
            <p:cNvPr id="63" name="Rectangle 36"/>
            <p:cNvSpPr/>
            <p:nvPr/>
          </p:nvSpPr>
          <p:spPr>
            <a:xfrm>
              <a:off x="5429160" y="928800"/>
              <a:ext cx="3311640" cy="3313080"/>
            </a:xfrm>
            <a:prstGeom prst="rect">
              <a:avLst/>
            </a:prstGeom>
            <a:solidFill>
              <a:srgbClr val="72b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AutoShape 19"/>
            <p:cNvSpPr/>
            <p:nvPr/>
          </p:nvSpPr>
          <p:spPr>
            <a:xfrm>
              <a:off x="5573880" y="1360440"/>
              <a:ext cx="294012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 flipV="1">
              <a:off x="6667560" y="2125800"/>
              <a:ext cx="981000" cy="8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Oval 21"/>
            <p:cNvSpPr/>
            <p:nvPr/>
          </p:nvSpPr>
          <p:spPr>
            <a:xfrm>
              <a:off x="6478560" y="2928960"/>
              <a:ext cx="22536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 flipV="1">
              <a:off x="7817040" y="1398600"/>
              <a:ext cx="677880" cy="58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Picture 25"/>
                <p:cNvSpPr txBox="1"/>
                <p:nvPr/>
              </p:nvSpPr>
              <p:spPr>
                <a:xfrm>
                  <a:off x="6091200" y="2657520"/>
                  <a:ext cx="4302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Picture 26"/>
                <p:cNvSpPr txBox="1"/>
                <p:nvPr/>
              </p:nvSpPr>
              <p:spPr>
                <a:xfrm>
                  <a:off x="7364520" y="1433520"/>
                  <a:ext cx="42876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0" name="Line 28"/>
            <p:cNvSpPr/>
            <p:nvPr/>
          </p:nvSpPr>
          <p:spPr>
            <a:xfrm flipV="1">
              <a:off x="6685200" y="2743200"/>
              <a:ext cx="249120" cy="21600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Oval 29"/>
            <p:cNvSpPr/>
            <p:nvPr/>
          </p:nvSpPr>
          <p:spPr>
            <a:xfrm>
              <a:off x="7608960" y="1947960"/>
              <a:ext cx="227160" cy="22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 flipV="1">
              <a:off x="5818320" y="3105360"/>
              <a:ext cx="679320" cy="58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26"/>
                <p:cNvSpPr txBox="1"/>
                <p:nvPr/>
              </p:nvSpPr>
              <p:spPr>
                <a:xfrm>
                  <a:off x="7013520" y="2081160"/>
                  <a:ext cx="3636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7"/>
                <p:cNvSpPr txBox="1"/>
                <p:nvPr/>
              </p:nvSpPr>
              <p:spPr>
                <a:xfrm>
                  <a:off x="6797880" y="2729160"/>
                  <a:ext cx="3808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Object 28"/>
                <p:cNvSpPr txBox="1"/>
                <p:nvPr/>
              </p:nvSpPr>
              <p:spPr>
                <a:xfrm>
                  <a:off x="8093160" y="1649520"/>
                  <a:ext cx="39528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29"/>
                <p:cNvSpPr txBox="1"/>
                <p:nvPr/>
              </p:nvSpPr>
              <p:spPr>
                <a:xfrm>
                  <a:off x="5932440" y="3449880"/>
                  <a:ext cx="4557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Rectangle 3"/>
          <p:cNvSpPr/>
          <p:nvPr/>
        </p:nvSpPr>
        <p:spPr>
          <a:xfrm>
            <a:off x="285840" y="1500120"/>
            <a:ext cx="50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到电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力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42920" y="857160"/>
            <a:ext cx="4929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空中两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静止点电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3780000" y="2708280"/>
            <a:ext cx="5184360" cy="2420280"/>
            <a:chOff x="3780000" y="2708280"/>
            <a:chExt cx="5184360" cy="2420280"/>
          </a:xfrm>
        </p:grpSpPr>
        <p:grpSp>
          <p:nvGrpSpPr>
            <p:cNvPr id="80" name="Group 3"/>
            <p:cNvGrpSpPr/>
            <p:nvPr/>
          </p:nvGrpSpPr>
          <p:grpSpPr>
            <a:xfrm>
              <a:off x="3780000" y="4131720"/>
              <a:ext cx="5184360" cy="996840"/>
              <a:chOff x="3780000" y="4131720"/>
              <a:chExt cx="5184360" cy="99684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5233320" y="4131720"/>
                <a:ext cx="2208600" cy="711360"/>
                <a:chOff x="5233320" y="4131720"/>
                <a:chExt cx="2208600" cy="7113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2" name="Object 13"/>
                    <p:cNvSpPr txBox="1"/>
                    <p:nvPr/>
                  </p:nvSpPr>
                  <p:spPr>
                    <a:xfrm>
                      <a:off x="6012720" y="4131720"/>
                      <a:ext cx="586080" cy="711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" name="Line 6"/>
                <p:cNvSpPr/>
                <p:nvPr/>
              </p:nvSpPr>
              <p:spPr>
                <a:xfrm>
                  <a:off x="5233320" y="4805280"/>
                  <a:ext cx="22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Group 7"/>
              <p:cNvGrpSpPr/>
              <p:nvPr/>
            </p:nvGrpSpPr>
            <p:grpSpPr>
              <a:xfrm>
                <a:off x="3780000" y="4512960"/>
                <a:ext cx="1388160" cy="582120"/>
                <a:chOff x="3780000" y="4512960"/>
                <a:chExt cx="1388160" cy="582120"/>
              </a:xfrm>
            </p:grpSpPr>
            <p:sp>
              <p:nvSpPr>
                <p:cNvPr id="85" name="Line 8"/>
                <p:cNvSpPr/>
                <p:nvPr/>
              </p:nvSpPr>
              <p:spPr>
                <a:xfrm flipH="1">
                  <a:off x="4388760" y="4798440"/>
                  <a:ext cx="779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6" name="Object 12"/>
                    <p:cNvSpPr txBox="1"/>
                    <p:nvPr/>
                  </p:nvSpPr>
                  <p:spPr>
                    <a:xfrm>
                      <a:off x="3780000" y="4512960"/>
                      <a:ext cx="609120" cy="582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87" name="Group 10"/>
              <p:cNvGrpSpPr/>
              <p:nvPr/>
            </p:nvGrpSpPr>
            <p:grpSpPr>
              <a:xfrm>
                <a:off x="7543800" y="4546440"/>
                <a:ext cx="1420560" cy="582120"/>
                <a:chOff x="7543800" y="4546440"/>
                <a:chExt cx="1420560" cy="582120"/>
              </a:xfrm>
            </p:grpSpPr>
            <p:sp>
              <p:nvSpPr>
                <p:cNvPr id="88" name="Line 11"/>
                <p:cNvSpPr/>
                <p:nvPr/>
              </p:nvSpPr>
              <p:spPr>
                <a:xfrm>
                  <a:off x="7543800" y="4798440"/>
                  <a:ext cx="779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9" name="Object 11"/>
                    <p:cNvSpPr txBox="1"/>
                    <p:nvPr/>
                  </p:nvSpPr>
                  <p:spPr>
                    <a:xfrm>
                      <a:off x="8416440" y="4546440"/>
                      <a:ext cx="547920" cy="582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90" name="Group 13"/>
              <p:cNvGrpSpPr/>
              <p:nvPr/>
            </p:nvGrpSpPr>
            <p:grpSpPr>
              <a:xfrm>
                <a:off x="5038560" y="4158360"/>
                <a:ext cx="2592360" cy="736560"/>
                <a:chOff x="5038560" y="4158360"/>
                <a:chExt cx="2592360" cy="736560"/>
              </a:xfrm>
            </p:grpSpPr>
            <p:grpSp>
              <p:nvGrpSpPr>
                <p:cNvPr id="91" name="Group 14"/>
                <p:cNvGrpSpPr/>
                <p:nvPr/>
              </p:nvGrpSpPr>
              <p:grpSpPr>
                <a:xfrm>
                  <a:off x="5038560" y="4183920"/>
                  <a:ext cx="384480" cy="710640"/>
                  <a:chOff x="5038560" y="4183920"/>
                  <a:chExt cx="384480" cy="71064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92" name="Object 10"/>
                      <p:cNvSpPr txBox="1"/>
                      <p:nvPr/>
                    </p:nvSpPr>
                    <p:spPr>
                      <a:xfrm>
                        <a:off x="5038560" y="4183920"/>
                        <a:ext cx="384480" cy="542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93" name="Oval 16"/>
                  <p:cNvSpPr/>
                  <p:nvPr/>
                </p:nvSpPr>
                <p:spPr>
                  <a:xfrm>
                    <a:off x="5103360" y="4700880"/>
                    <a:ext cx="194760" cy="193680"/>
                  </a:xfrm>
                  <a:prstGeom prst="ellipse">
                    <a:avLst/>
                  </a:prstGeom>
                  <a:solidFill>
                    <a:srgbClr val="f6f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4" name="Group 17"/>
                <p:cNvGrpSpPr/>
                <p:nvPr/>
              </p:nvGrpSpPr>
              <p:grpSpPr>
                <a:xfrm>
                  <a:off x="7182000" y="4158360"/>
                  <a:ext cx="448920" cy="736560"/>
                  <a:chOff x="7182000" y="4158360"/>
                  <a:chExt cx="448920" cy="73656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95" name="Object 9"/>
                      <p:cNvSpPr txBox="1"/>
                      <p:nvPr/>
                    </p:nvSpPr>
                    <p:spPr>
                      <a:xfrm>
                        <a:off x="7182000" y="4158360"/>
                        <a:ext cx="448920" cy="5428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96" name="Oval 19"/>
                  <p:cNvSpPr/>
                  <p:nvPr/>
                </p:nvSpPr>
                <p:spPr>
                  <a:xfrm>
                    <a:off x="7376400" y="4701240"/>
                    <a:ext cx="194400" cy="193680"/>
                  </a:xfrm>
                  <a:prstGeom prst="ellipse">
                    <a:avLst/>
                  </a:prstGeom>
                  <a:solidFill>
                    <a:srgbClr val="f6f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97" name="Group 20"/>
            <p:cNvGrpSpPr/>
            <p:nvPr/>
          </p:nvGrpSpPr>
          <p:grpSpPr>
            <a:xfrm>
              <a:off x="4169520" y="2708280"/>
              <a:ext cx="4221720" cy="1484640"/>
              <a:chOff x="4169520" y="2708280"/>
              <a:chExt cx="4221720" cy="1484640"/>
            </a:xfrm>
          </p:grpSpPr>
          <p:grpSp>
            <p:nvGrpSpPr>
              <p:cNvPr id="98" name="Group 21"/>
              <p:cNvGrpSpPr/>
              <p:nvPr/>
            </p:nvGrpSpPr>
            <p:grpSpPr>
              <a:xfrm>
                <a:off x="4169520" y="2899440"/>
                <a:ext cx="384120" cy="807120"/>
                <a:chOff x="4169520" y="2899440"/>
                <a:chExt cx="384120" cy="80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99" name="Object 8"/>
                    <p:cNvSpPr txBox="1"/>
                    <p:nvPr/>
                  </p:nvSpPr>
                  <p:spPr>
                    <a:xfrm>
                      <a:off x="4169520" y="2899440"/>
                      <a:ext cx="384120" cy="542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0" name="Oval 23"/>
                <p:cNvSpPr/>
                <p:nvPr/>
              </p:nvSpPr>
              <p:spPr>
                <a:xfrm>
                  <a:off x="4234320" y="3512520"/>
                  <a:ext cx="194400" cy="194040"/>
                </a:xfrm>
                <a:prstGeom prst="ellipse">
                  <a:avLst/>
                </a:prstGeom>
                <a:solidFill>
                  <a:srgbClr val="f6f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4299120" y="2742840"/>
                <a:ext cx="3573000" cy="836640"/>
                <a:chOff x="4299120" y="2742840"/>
                <a:chExt cx="3573000" cy="836640"/>
              </a:xfrm>
            </p:grpSpPr>
            <p:sp>
              <p:nvSpPr>
                <p:cNvPr id="102" name="Line 25"/>
                <p:cNvSpPr/>
                <p:nvPr/>
              </p:nvSpPr>
              <p:spPr>
                <a:xfrm flipV="1">
                  <a:off x="4299120" y="3256200"/>
                  <a:ext cx="3573000" cy="32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3" name="Object 7"/>
                    <p:cNvSpPr txBox="1"/>
                    <p:nvPr/>
                  </p:nvSpPr>
                  <p:spPr>
                    <a:xfrm>
                      <a:off x="5694120" y="2742840"/>
                      <a:ext cx="609120" cy="738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04" name="Group 27"/>
              <p:cNvGrpSpPr/>
              <p:nvPr/>
            </p:nvGrpSpPr>
            <p:grpSpPr>
              <a:xfrm>
                <a:off x="7417440" y="3254040"/>
                <a:ext cx="973800" cy="938880"/>
                <a:chOff x="7417440" y="3254040"/>
                <a:chExt cx="973800" cy="938880"/>
              </a:xfrm>
            </p:grpSpPr>
            <p:sp>
              <p:nvSpPr>
                <p:cNvPr id="105" name="Line 28"/>
                <p:cNvSpPr/>
                <p:nvPr/>
              </p:nvSpPr>
              <p:spPr>
                <a:xfrm>
                  <a:off x="7806960" y="3254040"/>
                  <a:ext cx="0" cy="51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" name="Line 29"/>
                <p:cNvSpPr/>
                <p:nvPr/>
              </p:nvSpPr>
              <p:spPr>
                <a:xfrm>
                  <a:off x="8001720" y="3254040"/>
                  <a:ext cx="0" cy="51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7" name="Line 30"/>
                <p:cNvSpPr/>
                <p:nvPr/>
              </p:nvSpPr>
              <p:spPr>
                <a:xfrm>
                  <a:off x="7417440" y="3611160"/>
                  <a:ext cx="38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31"/>
                <p:cNvSpPr/>
                <p:nvPr/>
              </p:nvSpPr>
              <p:spPr>
                <a:xfrm>
                  <a:off x="8001720" y="3611160"/>
                  <a:ext cx="38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9" name="Object 6"/>
                    <p:cNvSpPr txBox="1"/>
                    <p:nvPr/>
                  </p:nvSpPr>
                  <p:spPr>
                    <a:xfrm>
                      <a:off x="7724520" y="3740400"/>
                      <a:ext cx="342360" cy="452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d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10" name="Group 33"/>
              <p:cNvGrpSpPr/>
              <p:nvPr/>
            </p:nvGrpSpPr>
            <p:grpSpPr>
              <a:xfrm>
                <a:off x="4364280" y="3287880"/>
                <a:ext cx="3446640" cy="873000"/>
                <a:chOff x="4364280" y="3287880"/>
                <a:chExt cx="3446640" cy="873000"/>
              </a:xfrm>
            </p:grpSpPr>
            <p:grpSp>
              <p:nvGrpSpPr>
                <p:cNvPr id="111" name="Group 34"/>
                <p:cNvGrpSpPr/>
                <p:nvPr/>
              </p:nvGrpSpPr>
              <p:grpSpPr>
                <a:xfrm>
                  <a:off x="4364280" y="3481560"/>
                  <a:ext cx="1065960" cy="679320"/>
                  <a:chOff x="4364280" y="3481560"/>
                  <a:chExt cx="1065960" cy="679320"/>
                </a:xfrm>
              </p:grpSpPr>
              <p:sp>
                <p:nvSpPr>
                  <p:cNvPr id="112" name="Line 35"/>
                  <p:cNvSpPr/>
                  <p:nvPr/>
                </p:nvSpPr>
                <p:spPr>
                  <a:xfrm flipV="1">
                    <a:off x="4364280" y="3481560"/>
                    <a:ext cx="909000" cy="954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13" name="Object 5"/>
                      <p:cNvSpPr txBox="1"/>
                      <p:nvPr/>
                    </p:nvSpPr>
                    <p:spPr>
                      <a:xfrm>
                        <a:off x="4688640" y="3512880"/>
                        <a:ext cx="741600" cy="648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114" name="Group 37"/>
                <p:cNvGrpSpPr/>
                <p:nvPr/>
              </p:nvGrpSpPr>
              <p:grpSpPr>
                <a:xfrm>
                  <a:off x="6702480" y="3287880"/>
                  <a:ext cx="1108440" cy="646560"/>
                  <a:chOff x="6702480" y="3287880"/>
                  <a:chExt cx="1108440" cy="646560"/>
                </a:xfrm>
              </p:grpSpPr>
              <p:sp>
                <p:nvSpPr>
                  <p:cNvPr id="115" name="Line 38"/>
                  <p:cNvSpPr/>
                  <p:nvPr/>
                </p:nvSpPr>
                <p:spPr>
                  <a:xfrm flipH="1">
                    <a:off x="6966360" y="3287880"/>
                    <a:ext cx="844560" cy="64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16" name="Object 4"/>
                      <p:cNvSpPr txBox="1"/>
                      <p:nvPr/>
                    </p:nvSpPr>
                    <p:spPr>
                      <a:xfrm>
                        <a:off x="6702480" y="3319920"/>
                        <a:ext cx="578880" cy="614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grpSp>
            <p:nvGrpSpPr>
              <p:cNvPr id="117" name="Group 40"/>
              <p:cNvGrpSpPr/>
              <p:nvPr/>
            </p:nvGrpSpPr>
            <p:grpSpPr>
              <a:xfrm>
                <a:off x="7547400" y="2708280"/>
                <a:ext cx="596520" cy="674640"/>
                <a:chOff x="7547400" y="2708280"/>
                <a:chExt cx="596520" cy="674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18" name="Object 3"/>
                    <p:cNvSpPr txBox="1"/>
                    <p:nvPr/>
                  </p:nvSpPr>
                  <p:spPr>
                    <a:xfrm>
                      <a:off x="7547400" y="2708280"/>
                      <a:ext cx="596520" cy="449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9" name="Oval 42"/>
                <p:cNvSpPr/>
                <p:nvPr/>
              </p:nvSpPr>
              <p:spPr>
                <a:xfrm>
                  <a:off x="7806960" y="3189240"/>
                  <a:ext cx="194760" cy="1936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0" name="Text Box 9"/>
          <p:cNvSpPr/>
          <p:nvPr/>
        </p:nvSpPr>
        <p:spPr>
          <a:xfrm>
            <a:off x="468360" y="2033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空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263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电荷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84360" y="5157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定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1187280" y="0"/>
            <a:ext cx="1413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讨 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2843280" y="765000"/>
                <a:ext cx="331308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Rectangle 16"/>
          <p:cNvSpPr/>
          <p:nvPr/>
        </p:nvSpPr>
        <p:spPr>
          <a:xfrm>
            <a:off x="2627280" y="2565360"/>
            <a:ext cx="2000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象模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84360" y="3573360"/>
            <a:ext cx="30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电体的大小、形状可以忽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32135"/>
          <p:cNvSpPr/>
          <p:nvPr/>
        </p:nvSpPr>
        <p:spPr>
          <a:xfrm>
            <a:off x="525600" y="2575080"/>
            <a:ext cx="820404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8.98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9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·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N·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空真空电容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真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介电常数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  <a:ea typeface="黑体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8.8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N·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1EC4-6985-447C-9ECD-7F25C8240BF2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1528920" y="930240"/>
                <a:ext cx="314316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1830240" y="2305080"/>
                <a:ext cx="10004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071720" y="214200"/>
            <a:ext cx="7391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氢原子中，电子与质子的距离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11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求它们之间的万有引力和静电力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3520" y="2416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338040" y="2843280"/>
                <a:ext cx="8582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4343400" y="5692680"/>
                <a:ext cx="3886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684360" y="4205160"/>
                <a:ext cx="1839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9"/>
          <p:cNvSpPr/>
          <p:nvPr/>
        </p:nvSpPr>
        <p:spPr>
          <a:xfrm>
            <a:off x="468360" y="150192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已知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.67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2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 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6.67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1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·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k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9.1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3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1187280" y="5288040"/>
                <a:ext cx="244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2523960" y="4168800"/>
                <a:ext cx="5288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34154"/>
          <p:cNvGrpSpPr/>
          <p:nvPr/>
        </p:nvGrpSpPr>
        <p:grpSpPr>
          <a:xfrm>
            <a:off x="977760" y="2527200"/>
            <a:ext cx="5400720" cy="665280"/>
            <a:chOff x="977760" y="2527200"/>
            <a:chExt cx="5400720" cy="665280"/>
          </a:xfrm>
        </p:grpSpPr>
        <mc:AlternateContent>
          <mc:Choice xmlns:a14="http://schemas.microsoft.com/office/drawing/2010/main" Requires="a14">
            <p:sp>
              <p:nvSpPr>
                <p:cNvPr id="140" name="对象 134149"/>
                <p:cNvSpPr txBox="1"/>
                <p:nvPr/>
              </p:nvSpPr>
              <p:spPr>
                <a:xfrm>
                  <a:off x="3711240" y="2590560"/>
                  <a:ext cx="266724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/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≈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39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文本框 134150"/>
            <p:cNvSpPr/>
            <p:nvPr/>
          </p:nvSpPr>
          <p:spPr>
            <a:xfrm>
              <a:off x="977760" y="2527200"/>
              <a:ext cx="336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库仑力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&gt;&gt;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引力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文本框 134155"/>
          <p:cNvSpPr/>
          <p:nvPr/>
        </p:nvSpPr>
        <p:spPr>
          <a:xfrm>
            <a:off x="1525680" y="3400560"/>
            <a:ext cx="55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强力</a:t>
            </a:r>
            <a:r>
              <a:rPr b="0" lang="en-US" sz="2800" spc="-1" strike="noStrike">
                <a:solidFill>
                  <a:srgbClr val="993300"/>
                </a:solidFill>
                <a:latin typeface="黑体"/>
                <a:ea typeface="黑体"/>
              </a:rPr>
              <a:t>&gt;&gt;</a:t>
            </a:r>
            <a:r>
              <a:rPr b="0" lang="zh-CN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电磁力</a:t>
            </a:r>
            <a:r>
              <a:rPr b="0" lang="en-US" sz="2800" spc="-1" strike="noStrike">
                <a:solidFill>
                  <a:srgbClr val="993300"/>
                </a:solidFill>
                <a:latin typeface="黑体"/>
                <a:ea typeface="黑体"/>
              </a:rPr>
              <a:t>&gt;&gt;</a:t>
            </a:r>
            <a:r>
              <a:rPr b="0" lang="zh-CN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弱力</a:t>
            </a:r>
            <a:r>
              <a:rPr b="0" lang="en-US" sz="2800" spc="-1" strike="noStrike">
                <a:solidFill>
                  <a:srgbClr val="993300"/>
                </a:solidFill>
                <a:latin typeface="黑体"/>
                <a:ea typeface="黑体"/>
              </a:rPr>
              <a:t>&gt;&gt;</a:t>
            </a:r>
            <a:r>
              <a:rPr b="0" lang="zh-CN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引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文本框 134156"/>
          <p:cNvSpPr/>
          <p:nvPr/>
        </p:nvSpPr>
        <p:spPr>
          <a:xfrm>
            <a:off x="372960" y="5165640"/>
            <a:ext cx="822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子核中的核子（质子、中子）靠强力吸引，库仑排斥很弱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3800880" y="42577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宏观物体靠分子、原子间的库仑力维系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矩形 161794"/>
          <p:cNvSpPr/>
          <p:nvPr/>
        </p:nvSpPr>
        <p:spPr>
          <a:xfrm>
            <a:off x="2462040" y="1428840"/>
            <a:ext cx="23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平方反比规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万有引力定律类似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3320" y="9079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界的重要相互作用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5867280" y="836640"/>
                <a:ext cx="31435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5:28:04Z</dcterms:created>
  <dc:creator>MC SYSTEM</dc:creator>
  <dc:description/>
  <dc:language>en-US</dc:language>
  <cp:lastModifiedBy>szu</cp:lastModifiedBy>
  <dcterms:modified xsi:type="dcterms:W3CDTF">2019-04-16T03:53:03Z</dcterms:modified>
  <cp:revision>60</cp:revision>
  <dc:subject/>
  <dc:title>5-2   库仑定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